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F9896-5848-445F-BE8A-8BC5470BC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E9547-222A-4EB5-A1F6-F495D8A73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C5FC4-FD38-48F4-A90A-D0C91D890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E4316-EECB-49B9-BE3A-A99A19250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65B49-0189-422B-B82E-7366B0FDD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F3D6F-BD3D-4263-9B0C-20D409F65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058EA-B2F5-4B3B-8169-862025BB1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FD20-3E2D-4444-A2A7-693CD26F0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ECA73-F025-41BB-9F9A-3357EA7B1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6CAC-2930-4794-9823-4E81BBFFE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74C4C-0A7B-4D61-86BF-7C52AD78D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BBEE7-A4EA-414A-8610-0DAF7B47F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55F6-44C1-426A-AF86-4B82BD14E09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6.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78920" cy="6886800"/>
              <a:chOff x="1440" y="0"/>
              <a:chExt cx="917892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58000"/>
                    <a:chOff x="1440" y="0"/>
                    <a:chExt cx="9178920" cy="6858000"/>
                  </a:xfrm>
                </p:grpSpPr>
                <p:sp>
                  <p:nvSpPr>
                    <p:cNvPr id="1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
                    <p:cNvGrpSpPr/>
                    <p:nvPr/>
                  </p:nvGrpSpPr>
                  <p:grpSpPr>
                    <a:xfrm>
                      <a:off x="539640" y="0"/>
                      <a:ext cx="8640720" cy="6381720"/>
                      <a:chOff x="539640" y="0"/>
                      <a:chExt cx="8640720" cy="6381720"/>
                    </a:xfrm>
                  </p:grpSpPr>
                  <p:grpSp>
                    <p:nvGrpSpPr>
                      <p:cNvPr id="161" name=""/>
                      <p:cNvGrpSpPr/>
                      <p:nvPr/>
                    </p:nvGrpSpPr>
                    <p:grpSpPr>
                      <a:xfrm>
                        <a:off x="576360" y="0"/>
                        <a:ext cx="8604000" cy="1628640"/>
                        <a:chOff x="576360" y="0"/>
                        <a:chExt cx="8604000" cy="1628640"/>
                      </a:xfrm>
                    </p:grpSpPr>
                    <p:sp>
                      <p:nvSpPr>
                        <p:cNvPr id="1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179280" y="12600"/>
                    <a:ext cx="576360" cy="6836040"/>
                    <a:chOff x="179280" y="12600"/>
                    <a:chExt cx="576360" cy="6836040"/>
                  </a:xfrm>
                </p:grpSpPr>
                <p:sp>
                  <p:nvSpPr>
                    <p:cNvPr id="1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2" name="" descr=""/>
            <p:cNvPicPr/>
            <p:nvPr/>
          </p:nvPicPr>
          <p:blipFill>
            <a:blip r:embed="rId4"/>
            <a:stretch/>
          </p:blipFill>
          <p:spPr>
            <a:xfrm>
              <a:off x="8782200" y="27000"/>
              <a:ext cx="403200" cy="954000"/>
            </a:xfrm>
            <a:prstGeom prst="rect">
              <a:avLst/>
            </a:prstGeom>
            <a:ln w="0">
              <a:noFill/>
            </a:ln>
          </p:spPr>
        </p:pic>
      </p:grpSp>
      <p:graphicFrame>
        <p:nvGraphicFramePr>
          <p:cNvPr id="263"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
          <p:cNvSpPr/>
          <p:nvPr/>
        </p:nvSpPr>
        <p:spPr>
          <a:xfrm>
            <a:off x="1619280" y="3068640"/>
            <a:ext cx="684036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6" action="ppaction://hlinksldjump"/>
              </a:rPr>
              <a:t>HISTORIA</a:t>
            </a: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0" action="ppaction://hlinksldjump"/>
              </a:rPr>
              <a:t>ACTIVIDADES</a:t>
            </a: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4" action="ppaction://hlinksldjump"/>
              </a:rPr>
              <a:t>DIFERENCIACIÓN DE LA EMPRESA</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265" name=""/>
          <p:cNvSpPr txBox="1"/>
          <p:nvPr/>
        </p:nvSpPr>
        <p:spPr>
          <a:xfrm>
            <a:off x="2556000" y="1989000"/>
            <a:ext cx="47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SCRIPTIVO</a:t>
            </a:r>
            <a:endParaRPr b="1" lang="en-US" sz="1800" spc="1" strike="noStrike">
              <a:ln w="0">
                <a:noFill/>
              </a:ln>
              <a:solidFill>
                <a:srgbClr val="f7e9a1"/>
              </a:solidFill>
              <a:latin typeface="BankGothic Md BT"/>
              <a:ea typeface="BankGothic Md B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6" name=""/>
          <p:cNvGrpSpPr/>
          <p:nvPr/>
        </p:nvGrpSpPr>
        <p:grpSpPr>
          <a:xfrm>
            <a:off x="1440" y="0"/>
            <a:ext cx="9183960" cy="6886800"/>
            <a:chOff x="1440" y="0"/>
            <a:chExt cx="9183960" cy="6886800"/>
          </a:xfrm>
        </p:grpSpPr>
        <p:grpSp>
          <p:nvGrpSpPr>
            <p:cNvPr id="267" name=""/>
            <p:cNvGrpSpPr/>
            <p:nvPr/>
          </p:nvGrpSpPr>
          <p:grpSpPr>
            <a:xfrm>
              <a:off x="1440" y="0"/>
              <a:ext cx="9178920" cy="6886800"/>
              <a:chOff x="1440" y="0"/>
              <a:chExt cx="9178920" cy="6886800"/>
            </a:xfrm>
          </p:grpSpPr>
          <p:grpSp>
            <p:nvGrpSpPr>
              <p:cNvPr id="268" name=""/>
              <p:cNvGrpSpPr/>
              <p:nvPr/>
            </p:nvGrpSpPr>
            <p:grpSpPr>
              <a:xfrm>
                <a:off x="1440" y="0"/>
                <a:ext cx="9178920" cy="6886800"/>
                <a:chOff x="1440" y="0"/>
                <a:chExt cx="9178920" cy="6886800"/>
              </a:xfrm>
            </p:grpSpPr>
            <p:grpSp>
              <p:nvGrpSpPr>
                <p:cNvPr id="269" name=""/>
                <p:cNvGrpSpPr/>
                <p:nvPr/>
              </p:nvGrpSpPr>
              <p:grpSpPr>
                <a:xfrm>
                  <a:off x="1440" y="0"/>
                  <a:ext cx="9178920" cy="6886800"/>
                  <a:chOff x="1440" y="0"/>
                  <a:chExt cx="9178920" cy="6886800"/>
                </a:xfrm>
              </p:grpSpPr>
              <p:grpSp>
                <p:nvGrpSpPr>
                  <p:cNvPr id="270" name=""/>
                  <p:cNvGrpSpPr/>
                  <p:nvPr/>
                </p:nvGrpSpPr>
                <p:grpSpPr>
                  <a:xfrm>
                    <a:off x="1440" y="0"/>
                    <a:ext cx="9178920" cy="6858000"/>
                    <a:chOff x="1440" y="0"/>
                    <a:chExt cx="9178920" cy="6858000"/>
                  </a:xfrm>
                </p:grpSpPr>
                <p:sp>
                  <p:nvSpPr>
                    <p:cNvPr id="271"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539640" y="0"/>
                      <a:ext cx="8640720" cy="6381720"/>
                      <a:chOff x="539640" y="0"/>
                      <a:chExt cx="8640720" cy="6381720"/>
                    </a:xfrm>
                  </p:grpSpPr>
                  <p:grpSp>
                    <p:nvGrpSpPr>
                      <p:cNvPr id="273" name=""/>
                      <p:cNvGrpSpPr/>
                      <p:nvPr/>
                    </p:nvGrpSpPr>
                    <p:grpSpPr>
                      <a:xfrm>
                        <a:off x="576360" y="0"/>
                        <a:ext cx="8604000" cy="1628640"/>
                        <a:chOff x="576360" y="0"/>
                        <a:chExt cx="8604000" cy="1628640"/>
                      </a:xfrm>
                    </p:grpSpPr>
                    <p:sp>
                      <p:nvSpPr>
                        <p:cNvPr id="274"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9"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179280" y="12600"/>
                    <a:ext cx="576360" cy="6836040"/>
                    <a:chOff x="179280" y="12600"/>
                    <a:chExt cx="576360" cy="6836040"/>
                  </a:xfrm>
                </p:grpSpPr>
                <p:sp>
                  <p:nvSpPr>
                    <p:cNvPr id="281"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2"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3"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5"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6"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7"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8"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0"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3"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4"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5"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6"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7"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8"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9"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1"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3"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5"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6"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7"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8"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9"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68"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69"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0"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1"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4" name="" descr=""/>
            <p:cNvPicPr/>
            <p:nvPr/>
          </p:nvPicPr>
          <p:blipFill>
            <a:blip r:embed="rId4"/>
            <a:stretch/>
          </p:blipFill>
          <p:spPr>
            <a:xfrm>
              <a:off x="8782200" y="27000"/>
              <a:ext cx="403200" cy="954000"/>
            </a:xfrm>
            <a:prstGeom prst="rect">
              <a:avLst/>
            </a:prstGeom>
            <a:ln w="0">
              <a:noFill/>
            </a:ln>
          </p:spPr>
        </p:pic>
      </p:grpSp>
      <p:sp>
        <p:nvSpPr>
          <p:cNvPr id="375"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77"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79"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0" name=""/>
          <p:cNvGrpSpPr/>
          <p:nvPr/>
        </p:nvGrpSpPr>
        <p:grpSpPr>
          <a:xfrm>
            <a:off x="1857240" y="3860640"/>
            <a:ext cx="5857560" cy="288720"/>
            <a:chOff x="1857240" y="3860640"/>
            <a:chExt cx="5857560" cy="288720"/>
          </a:xfrm>
        </p:grpSpPr>
        <p:sp>
          <p:nvSpPr>
            <p:cNvPr id="381"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86"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87"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88"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rea como tal Obras y Proyectos Aguirre. S. L</a:t>
            </a:r>
            <a:r>
              <a:rPr b="0" lang="es-ES_tradnl" sz="1800" spc="-1" strike="noStrike">
                <a:solidFill>
                  <a:srgbClr val="000000"/>
                </a:solidFill>
                <a:latin typeface="Arial"/>
              </a:rPr>
              <a:t> </a:t>
            </a:r>
            <a:r>
              <a:rPr b="0" lang="es-ES_tradnl" sz="1000" spc="-1" strike="noStrike">
                <a:solidFill>
                  <a:srgbClr val="000000"/>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1"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2" name=""/>
          <p:cNvGrpSpPr/>
          <p:nvPr/>
        </p:nvGrpSpPr>
        <p:grpSpPr>
          <a:xfrm>
            <a:off x="1440" y="0"/>
            <a:ext cx="9183960" cy="6886800"/>
            <a:chOff x="1440" y="0"/>
            <a:chExt cx="9183960" cy="6886800"/>
          </a:xfrm>
        </p:grpSpPr>
        <p:grpSp>
          <p:nvGrpSpPr>
            <p:cNvPr id="393" name=""/>
            <p:cNvGrpSpPr/>
            <p:nvPr/>
          </p:nvGrpSpPr>
          <p:grpSpPr>
            <a:xfrm>
              <a:off x="1440" y="0"/>
              <a:ext cx="9178920" cy="6886800"/>
              <a:chOff x="1440" y="0"/>
              <a:chExt cx="9178920" cy="6886800"/>
            </a:xfrm>
          </p:grpSpPr>
          <p:grpSp>
            <p:nvGrpSpPr>
              <p:cNvPr id="394" name=""/>
              <p:cNvGrpSpPr/>
              <p:nvPr/>
            </p:nvGrpSpPr>
            <p:grpSpPr>
              <a:xfrm>
                <a:off x="1440" y="0"/>
                <a:ext cx="9178920" cy="6886800"/>
                <a:chOff x="1440" y="0"/>
                <a:chExt cx="9178920" cy="6886800"/>
              </a:xfrm>
            </p:grpSpPr>
            <p:grpSp>
              <p:nvGrpSpPr>
                <p:cNvPr id="395" name=""/>
                <p:cNvGrpSpPr/>
                <p:nvPr/>
              </p:nvGrpSpPr>
              <p:grpSpPr>
                <a:xfrm>
                  <a:off x="1440" y="0"/>
                  <a:ext cx="9178920" cy="6886800"/>
                  <a:chOff x="1440" y="0"/>
                  <a:chExt cx="9178920" cy="6886800"/>
                </a:xfrm>
              </p:grpSpPr>
              <p:grpSp>
                <p:nvGrpSpPr>
                  <p:cNvPr id="396" name=""/>
                  <p:cNvGrpSpPr/>
                  <p:nvPr/>
                </p:nvGrpSpPr>
                <p:grpSpPr>
                  <a:xfrm>
                    <a:off x="1440" y="0"/>
                    <a:ext cx="9178920" cy="6858000"/>
                    <a:chOff x="1440" y="0"/>
                    <a:chExt cx="9178920" cy="6858000"/>
                  </a:xfrm>
                </p:grpSpPr>
                <p:sp>
                  <p:nvSpPr>
                    <p:cNvPr id="39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539640" y="0"/>
                      <a:ext cx="8640720" cy="6381720"/>
                      <a:chOff x="539640" y="0"/>
                      <a:chExt cx="8640720" cy="6381720"/>
                    </a:xfrm>
                  </p:grpSpPr>
                  <p:grpSp>
                    <p:nvGrpSpPr>
                      <p:cNvPr id="399" name=""/>
                      <p:cNvGrpSpPr/>
                      <p:nvPr/>
                    </p:nvGrpSpPr>
                    <p:grpSpPr>
                      <a:xfrm>
                        <a:off x="576360" y="0"/>
                        <a:ext cx="8604000" cy="1628640"/>
                        <a:chOff x="576360" y="0"/>
                        <a:chExt cx="8604000" cy="1628640"/>
                      </a:xfrm>
                    </p:grpSpPr>
                    <p:sp>
                      <p:nvSpPr>
                        <p:cNvPr id="40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 name=""/>
                  <p:cNvGrpSpPr/>
                  <p:nvPr/>
                </p:nvGrpSpPr>
                <p:grpSpPr>
                  <a:xfrm>
                    <a:off x="179280" y="12600"/>
                    <a:ext cx="576360" cy="6836040"/>
                    <a:chOff x="179280" y="12600"/>
                    <a:chExt cx="576360" cy="6836040"/>
                  </a:xfrm>
                </p:grpSpPr>
                <p:sp>
                  <p:nvSpPr>
                    <p:cNvPr id="40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6"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0" name="" descr=""/>
            <p:cNvPicPr/>
            <p:nvPr/>
          </p:nvPicPr>
          <p:blipFill>
            <a:blip r:embed="rId3"/>
            <a:stretch/>
          </p:blipFill>
          <p:spPr>
            <a:xfrm>
              <a:off x="8782200" y="27000"/>
              <a:ext cx="403200" cy="954000"/>
            </a:xfrm>
            <a:prstGeom prst="rect">
              <a:avLst/>
            </a:prstGeom>
            <a:ln w="0">
              <a:noFill/>
            </a:ln>
          </p:spPr>
        </p:pic>
      </p:grpSp>
      <p:sp>
        <p:nvSpPr>
          <p:cNvPr id="501"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bido a que esta empresa se ha mantenido en un proceso estable, podemos 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3"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04" name=""/>
          <p:cNvGrpSpPr/>
          <p:nvPr/>
        </p:nvGrpSpPr>
        <p:grpSpPr>
          <a:xfrm>
            <a:off x="1440" y="0"/>
            <a:ext cx="9183960" cy="6886800"/>
            <a:chOff x="1440" y="0"/>
            <a:chExt cx="9183960" cy="6886800"/>
          </a:xfrm>
        </p:grpSpPr>
        <p:grpSp>
          <p:nvGrpSpPr>
            <p:cNvPr id="505" name=""/>
            <p:cNvGrpSpPr/>
            <p:nvPr/>
          </p:nvGrpSpPr>
          <p:grpSpPr>
            <a:xfrm>
              <a:off x="1440" y="0"/>
              <a:ext cx="9178920" cy="6886800"/>
              <a:chOff x="1440" y="0"/>
              <a:chExt cx="9178920" cy="6886800"/>
            </a:xfrm>
          </p:grpSpPr>
          <p:grpSp>
            <p:nvGrpSpPr>
              <p:cNvPr id="506" name=""/>
              <p:cNvGrpSpPr/>
              <p:nvPr/>
            </p:nvGrpSpPr>
            <p:grpSpPr>
              <a:xfrm>
                <a:off x="1440" y="0"/>
                <a:ext cx="9178920" cy="6886800"/>
                <a:chOff x="1440" y="0"/>
                <a:chExt cx="9178920" cy="6886800"/>
              </a:xfrm>
            </p:grpSpPr>
            <p:grpSp>
              <p:nvGrpSpPr>
                <p:cNvPr id="507" name=""/>
                <p:cNvGrpSpPr/>
                <p:nvPr/>
              </p:nvGrpSpPr>
              <p:grpSpPr>
                <a:xfrm>
                  <a:off x="1440" y="0"/>
                  <a:ext cx="9178920" cy="6886800"/>
                  <a:chOff x="1440" y="0"/>
                  <a:chExt cx="9178920" cy="6886800"/>
                </a:xfrm>
              </p:grpSpPr>
              <p:grpSp>
                <p:nvGrpSpPr>
                  <p:cNvPr id="508" name=""/>
                  <p:cNvGrpSpPr/>
                  <p:nvPr/>
                </p:nvGrpSpPr>
                <p:grpSpPr>
                  <a:xfrm>
                    <a:off x="1440" y="0"/>
                    <a:ext cx="9178920" cy="6858000"/>
                    <a:chOff x="1440" y="0"/>
                    <a:chExt cx="9178920" cy="6858000"/>
                  </a:xfrm>
                </p:grpSpPr>
                <p:sp>
                  <p:nvSpPr>
                    <p:cNvPr id="50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0" name=""/>
                    <p:cNvGrpSpPr/>
                    <p:nvPr/>
                  </p:nvGrpSpPr>
                  <p:grpSpPr>
                    <a:xfrm>
                      <a:off x="539640" y="0"/>
                      <a:ext cx="8640720" cy="6381720"/>
                      <a:chOff x="539640" y="0"/>
                      <a:chExt cx="8640720" cy="6381720"/>
                    </a:xfrm>
                  </p:grpSpPr>
                  <p:grpSp>
                    <p:nvGrpSpPr>
                      <p:cNvPr id="511" name=""/>
                      <p:cNvGrpSpPr/>
                      <p:nvPr/>
                    </p:nvGrpSpPr>
                    <p:grpSpPr>
                      <a:xfrm>
                        <a:off x="576360" y="0"/>
                        <a:ext cx="8604000" cy="1628640"/>
                        <a:chOff x="576360" y="0"/>
                        <a:chExt cx="8604000" cy="1628640"/>
                      </a:xfrm>
                    </p:grpSpPr>
                    <p:sp>
                      <p:nvSpPr>
                        <p:cNvPr id="51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1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8" name=""/>
                  <p:cNvGrpSpPr/>
                  <p:nvPr/>
                </p:nvGrpSpPr>
                <p:grpSpPr>
                  <a:xfrm>
                    <a:off x="179280" y="12600"/>
                    <a:ext cx="576360" cy="6836040"/>
                    <a:chOff x="179280" y="12600"/>
                    <a:chExt cx="576360" cy="6836040"/>
                  </a:xfrm>
                </p:grpSpPr>
                <p:sp>
                  <p:nvSpPr>
                    <p:cNvPr id="51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2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2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2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2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2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2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3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3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3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3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3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4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4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4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5" name=""/>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0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07"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08"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0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12" name="" descr=""/>
            <p:cNvPicPr/>
            <p:nvPr/>
          </p:nvPicPr>
          <p:blipFill>
            <a:blip r:embed="rId1"/>
            <a:stretch/>
          </p:blipFill>
          <p:spPr>
            <a:xfrm>
              <a:off x="8782200" y="27000"/>
              <a:ext cx="403200" cy="954000"/>
            </a:xfrm>
            <a:prstGeom prst="rect">
              <a:avLst/>
            </a:prstGeom>
            <a:ln w="0">
              <a:noFill/>
            </a:ln>
          </p:spPr>
        </p:pic>
      </p:grpSp>
      <p:sp>
        <p:nvSpPr>
          <p:cNvPr id="613" name=""/>
          <p:cNvSpPr/>
          <p:nvPr/>
        </p:nvSpPr>
        <p:spPr>
          <a:xfrm>
            <a:off x="900000" y="1844640"/>
            <a:ext cx="8062920" cy="4358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
          <p:cNvSpPr txBox="1"/>
          <p:nvPr/>
        </p:nvSpPr>
        <p:spPr>
          <a:xfrm>
            <a:off x="3132000" y="1989000"/>
            <a:ext cx="36007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03T07:42:56Z</dcterms:modified>
  <cp:revision>161</cp:revision>
  <dc:subject/>
  <dc:title>Diapositiva 1</dc:title>
</cp:coreProperties>
</file>